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1E77-9155-427F-AD76-CAF3604E97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Open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plane fl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perfume spray wo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es a cricket ball curv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pen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plane f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perfume spray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es a cricket ball cur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moving fluid p+½rV2 = constant everyw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ncrease in velocity of the fluid results in a decrease in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 is an extension of F=ma for fluid flows and aerodynam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moving fluid p+½rV2 = constant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e in velocity of the fluid results in a decrease in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 is an extension of F=ma for fluid flows and aero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WING GENERATE LIF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mbalance of pressure over the top and bottom surfaces of the 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pressure above is lower than the pressure on bottom surface, lift is gene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WING GENERATE LI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mbalance of pressure over the top and bottom surfaces of the 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essure above is lower than the pressure on bottom surface, lift is gener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plane Wing is curved on to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 Wing is curved on t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CURVED WING GENERATE LIF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velocity over the top of wing is faster than over bottom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over wing is squashed to smaller cross-sectional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continuity rAV=constant, velocity must incr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CURVED WING GENERATE LI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velocity over the top of wing is faster than over bottom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over wing is squashed to smaller cross-sectional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continuity rAV=constant, velocity must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when two ships or trucks pass alongside each oth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two ships or trucks pass alongside each o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incr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decr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at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TURI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incr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decr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TURI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rnal forces ca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y to colla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speeds up at constr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is l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force acting on artery wall is redu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iosclerosis and vascular f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forces ca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speeds up at con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is 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orce acting on artery wall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osclerosis and vascular fl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 and link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 Activit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itchellscience.com/bernoulli_principle_discussion_nom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ve Spangler and Hydrogen Hexafluorid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GRLOgmmz_E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t Colorado Fluid Pressure and Flow simul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phet.colorado.edu/en/simulation/fluid-pressure-and-flo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Fluids: http://mechteacher.com/fluid/#ixzz2fcgGwLb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ing Fluids,Laminar Flow and stream lin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_aWdeXby7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 and lin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tchellscience.com/bernoulli_principle_discussion_nom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ve Spangler and Hydrogen Hexafluor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youtube.com/watch?v=GRLOgmmz_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et Colorado Fluid Pressure and Flow simul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het.colorado.edu/en/simulation/fluid-pressure-and-fl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Fluids: http://mechteacher.com/fluid/#ixzz2fcgGwLb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ing Fluids,Laminar Flow and stream li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youtube.com/watch?v=_aWdeXby7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iel Bernoulli (1700 – 178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rivation and Applications of the Bernoulli Princip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S Taldykor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de 11 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Object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To apply Bernoulli’s equation to solv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To describe Bernoulli’s principle and to derive his formula in terms of conservation of energ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To present applications of the Bernoulli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iel Bernoulli (1700 – 178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on and Applications of the Bernoulli Princi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S Taldyk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e 11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To apply Bernoulli’s equation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To describe Bernoulli’s principle and to derive his formula in terms of conservation of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To present applications of the Bernoulli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speed of a fluid goes up, its pressure goes d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sure in a fast moving stream of fluid is less than the pressure in a slower str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st stream = low air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 stream = High air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 speed of a fluid goes up, its pressure goes dow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sure in a fast moving stream of fluid is less than the pressure in a slower 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stream = low ai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stream = High ai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 of Continu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 of Continu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 in terms of Flui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y point along a flow tube or streamlin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+ ½  v2 +  g h =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term has the dimensions of energy / volume or energy d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  v 2   KE of bulk motion of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h      GPE for location of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           pressure energy density arising from internal forces with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 fluid (similar to energy stored in a spr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ormation of SI Units to Joule/meter3= energy/volum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[Pa] = [N m-2] = [N m m-3] = [J m-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  v2     [kg m-3 m2 s-2] = [kg m-1 s-2] = [N m m-3] = [J m-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h       [kg m-3 m s-2 m] = [kg m s-2 m m-3] = [N m m-3] = [J m-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 in terms of Flui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point along a flow tube or streamli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+ ½  v2 +  g h =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the dimensions of energy / volume or energy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 v 2   KE of bulk motion of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h      GPE for location of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           pressure energy density arising from internal forces with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fluid (similar to energy stored in a sp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ation of SI Units to Joule/meter3= energy/volu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[Pa] = [N m-2] = [N m m-3] = [J m-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 v2     [kg m-3 m2 s-2] = [kg m-1 s-2] = [N m m-3] = [J m-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h       [kg m-3 m s-2 m] = [kg m s-2 m m-3] = [N m m-3] = [J m-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riving Bernoulli’s starting with the law of continu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ing Bernoulli’s starting with the law of continu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teady flow, the velocity, pressure, and elevation of an incompressible and nonviscous fluid are related by an equation discovered by Daniel Bernoulli (1700–1782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steady flow, the velocity, pressure, and elevation of an incompressible and nonviscous fluid are related by an equation discovered by Daniel Bernoulli (1700–178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riving Bernoulli’s equation as Conservation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ing Bernoulli’s equation as Conservation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E307-6782-4D7E-9CA5-C04B3ABF7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03FA-63C4-484A-9DAA-05DB609E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3A28-F88A-4A99-9BAE-C6CC01FCE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6A52-705B-4BAD-8A7E-42560AB3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8B17-A3C3-4820-9660-CFF0DC57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7400-4F8A-4A75-B39E-393F3138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21EB-A736-4DD1-954D-BDD4BB0D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C0E5-96D5-4DE6-A75B-931021D2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CE43-2DB7-4AAA-A717-759A63A6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01CA-ACA4-453A-8FEB-3547B15F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75D4-52B7-4883-9A06-837C8E30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DB62-B4B5-4454-8144-416E8E8D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557E-D688-4D74-B42F-3217BEE67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86720" y="397800"/>
            <a:ext cx="36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Lesson Opener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1056960"/>
            <a:ext cx="55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ow does a plane f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ow does a perfume spray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Why does a cricket ball curve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Plane in flight.jpg"/>
          <p:cNvPicPr/>
          <p:nvPr/>
        </p:nvPicPr>
        <p:blipFill>
          <a:blip r:embed="rId1"/>
          <a:stretch/>
        </p:blipFill>
        <p:spPr>
          <a:xfrm>
            <a:off x="539640" y="2708280"/>
            <a:ext cx="4621320" cy="3168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Spray-Perfume.jpg"/>
          <p:cNvPicPr/>
          <p:nvPr/>
        </p:nvPicPr>
        <p:blipFill>
          <a:blip r:embed="rId2"/>
          <a:stretch/>
        </p:blipFill>
        <p:spPr>
          <a:xfrm>
            <a:off x="5292720" y="549360"/>
            <a:ext cx="3600360" cy="20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rickett curveball.png"/>
          <p:cNvPicPr/>
          <p:nvPr/>
        </p:nvPicPr>
        <p:blipFill>
          <a:blip r:embed="rId3"/>
          <a:stretch/>
        </p:blipFill>
        <p:spPr>
          <a:xfrm>
            <a:off x="5435640" y="2852640"/>
            <a:ext cx="3708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533520" y="5335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rnoulli’s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2"/>
              <p:cNvSpPr txBox="1"/>
              <p:nvPr/>
            </p:nvSpPr>
            <p:spPr>
              <a:xfrm>
                <a:off x="762120" y="1295280"/>
                <a:ext cx="76881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ρv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ρ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ρ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ρ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85" name="Picture 5" descr="E:\Media\Image_Library\chapter14\1419a.jpg"/>
          <p:cNvPicPr/>
          <p:nvPr/>
        </p:nvPicPr>
        <p:blipFill>
          <a:blip r:embed="rId1"/>
          <a:srcRect l="0" t="0" r="0" b="13624"/>
          <a:stretch/>
        </p:blipFill>
        <p:spPr>
          <a:xfrm>
            <a:off x="76320" y="2362320"/>
            <a:ext cx="4483080" cy="29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6" name="Object 3"/>
              <p:cNvSpPr txBox="1"/>
              <p:nvPr/>
            </p:nvSpPr>
            <p:spPr>
              <a:xfrm>
                <a:off x="4664160" y="2505240"/>
                <a:ext cx="4479840" cy="29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BERNOULLI’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3"/>
              <p:cNvSpPr txBox="1"/>
              <p:nvPr/>
            </p:nvSpPr>
            <p:spPr>
              <a:xfrm>
                <a:off x="1258920" y="765000"/>
                <a:ext cx="604980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ρ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ρ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ρ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" name="Rectangle 4"/>
          <p:cNvSpPr/>
          <p:nvPr/>
        </p:nvSpPr>
        <p:spPr>
          <a:xfrm>
            <a:off x="0" y="3213000"/>
            <a:ext cx="8991720" cy="33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moving fluid p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½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constant every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crease in velocity of the fluid results in a decrease in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noulli’s equation is an extension of F=ma for fluid flows and aerodyna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4149360" y="206064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OW DOES A WING GENERATE LIF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907560"/>
            <a:ext cx="8991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balance of pressure over the top and bottom surfaces of the 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ressure above is lower than the pressure on bottom surface, lift is gene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astana air.jpg"/>
          <p:cNvPicPr/>
          <p:nvPr/>
        </p:nvPicPr>
        <p:blipFill>
          <a:blip r:embed="rId1"/>
          <a:stretch/>
        </p:blipFill>
        <p:spPr>
          <a:xfrm>
            <a:off x="1332000" y="3141720"/>
            <a:ext cx="604836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Airplane Wing is curved on to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fig11_34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440" y="10944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ES A CURVED WING GENERATE LIF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692280"/>
            <a:ext cx="8991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w velocity over the top of wing is faster than over bottom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 over wing is squashed to smaller cross-sectiona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continu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=constant, velocity must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4" descr="wing provides lift.gif"/>
          <p:cNvPicPr/>
          <p:nvPr/>
        </p:nvPicPr>
        <p:blipFill>
          <a:blip r:embed="rId1"/>
          <a:stretch/>
        </p:blipFill>
        <p:spPr>
          <a:xfrm>
            <a:off x="1403280" y="3429000"/>
            <a:ext cx="65534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2"/>
          <p:cNvSpPr/>
          <p:nvPr/>
        </p:nvSpPr>
        <p:spPr>
          <a:xfrm flipH="1">
            <a:off x="1523520" y="328608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"/>
          <p:cNvSpPr/>
          <p:nvPr/>
        </p:nvSpPr>
        <p:spPr>
          <a:xfrm flipH="1">
            <a:off x="1523520" y="257184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 flipH="1">
            <a:off x="1523520" y="557208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>
            <a:off x="1523520" y="1857240"/>
            <a:ext cx="5715000" cy="0"/>
          </a:xfrm>
          <a:prstGeom prst="line">
            <a:avLst/>
          </a:prstGeom>
          <a:ln w="9360">
            <a:solidFill>
              <a:srgbClr val="1a0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 flipH="1">
            <a:off x="1523520" y="4000680"/>
            <a:ext cx="5715000" cy="0"/>
          </a:xfrm>
          <a:prstGeom prst="line">
            <a:avLst/>
          </a:prstGeom>
          <a:ln w="9360">
            <a:solidFill>
              <a:srgbClr val="1a0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 flipH="1">
            <a:off x="1523520" y="485784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 flipH="1">
            <a:off x="1523520" y="100008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0"/>
          <p:cNvSpPr/>
          <p:nvPr/>
        </p:nvSpPr>
        <p:spPr>
          <a:xfrm flipH="1">
            <a:off x="1523520" y="28584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1"/>
          <p:cNvGrpSpPr/>
          <p:nvPr/>
        </p:nvGrpSpPr>
        <p:grpSpPr>
          <a:xfrm>
            <a:off x="1650960" y="3571920"/>
            <a:ext cx="5587560" cy="428400"/>
            <a:chOff x="1650960" y="3571920"/>
            <a:chExt cx="5587560" cy="428400"/>
          </a:xfrm>
        </p:grpSpPr>
        <p:sp>
          <p:nvSpPr>
            <p:cNvPr id="208" name="Line 12"/>
            <p:cNvSpPr/>
            <p:nvPr/>
          </p:nvSpPr>
          <p:spPr>
            <a:xfrm flipH="1">
              <a:off x="5460840" y="4000320"/>
              <a:ext cx="177768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3"/>
            <p:cNvSpPr/>
            <p:nvPr/>
          </p:nvSpPr>
          <p:spPr>
            <a:xfrm flipH="1" flipV="1">
              <a:off x="3301200" y="3571920"/>
              <a:ext cx="2159280" cy="4284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4"/>
            <p:cNvSpPr/>
            <p:nvPr/>
          </p:nvSpPr>
          <p:spPr>
            <a:xfrm flipH="1">
              <a:off x="1650960" y="3571920"/>
              <a:ext cx="165024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15"/>
          <p:cNvGrpSpPr/>
          <p:nvPr/>
        </p:nvGrpSpPr>
        <p:grpSpPr>
          <a:xfrm>
            <a:off x="1778040" y="1857240"/>
            <a:ext cx="5587560" cy="428400"/>
            <a:chOff x="1778040" y="1857240"/>
            <a:chExt cx="5587560" cy="428400"/>
          </a:xfrm>
        </p:grpSpPr>
        <p:sp>
          <p:nvSpPr>
            <p:cNvPr id="212" name="Line 16"/>
            <p:cNvSpPr/>
            <p:nvPr/>
          </p:nvSpPr>
          <p:spPr>
            <a:xfrm flipH="1">
              <a:off x="5587920" y="1857240"/>
              <a:ext cx="177768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7"/>
            <p:cNvSpPr/>
            <p:nvPr/>
          </p:nvSpPr>
          <p:spPr>
            <a:xfrm flipH="1">
              <a:off x="3428280" y="1857240"/>
              <a:ext cx="2159280" cy="4284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8"/>
            <p:cNvSpPr/>
            <p:nvPr/>
          </p:nvSpPr>
          <p:spPr>
            <a:xfrm flipH="1">
              <a:off x="1778040" y="2285640"/>
              <a:ext cx="165024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AutoShape 19"/>
          <p:cNvSpPr/>
          <p:nvPr/>
        </p:nvSpPr>
        <p:spPr>
          <a:xfrm rot="16200000">
            <a:off x="3889440" y="3242880"/>
            <a:ext cx="857160" cy="2032200"/>
          </a:xfrm>
          <a:custGeom>
            <a:avLst/>
            <a:gdLst>
              <a:gd name="textAreaLeft" fmla="*/ 178560 w 857160"/>
              <a:gd name="textAreaRight" fmla="*/ 678600 w 857160"/>
              <a:gd name="textAreaTop" fmla="*/ 423360 h 2032200"/>
              <a:gd name="textAreaBottom" fmla="*/ 1608840 h 203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0"/>
          <p:cNvSpPr/>
          <p:nvPr/>
        </p:nvSpPr>
        <p:spPr>
          <a:xfrm rot="16200000">
            <a:off x="3889440" y="588600"/>
            <a:ext cx="857160" cy="2032200"/>
          </a:xfrm>
          <a:custGeom>
            <a:avLst/>
            <a:gdLst>
              <a:gd name="textAreaLeft" fmla="*/ 178560 w 857160"/>
              <a:gd name="textAreaRight" fmla="*/ 678600 w 857160"/>
              <a:gd name="textAreaTop" fmla="*/ 423360 h 2032200"/>
              <a:gd name="textAreaBottom" fmla="*/ 1608840 h 203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 flipH="1">
            <a:off x="1523520" y="293220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3420720" y="2476440"/>
            <a:ext cx="183132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igh spe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3"/>
          <p:cNvSpPr/>
          <p:nvPr/>
        </p:nvSpPr>
        <p:spPr>
          <a:xfrm flipV="1">
            <a:off x="4265640" y="4285800"/>
            <a:ext cx="0" cy="714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4"/>
          <p:cNvSpPr/>
          <p:nvPr/>
        </p:nvSpPr>
        <p:spPr>
          <a:xfrm>
            <a:off x="4317840" y="857160"/>
            <a:ext cx="0" cy="714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4413600" y="4857840"/>
            <a:ext cx="102672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for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4413600" y="428760"/>
            <a:ext cx="102672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for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7"/>
          <p:cNvSpPr/>
          <p:nvPr/>
        </p:nvSpPr>
        <p:spPr>
          <a:xfrm>
            <a:off x="371880" y="5645520"/>
            <a:ext cx="846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c0066"/>
                </a:solidFill>
                <a:latin typeface="Arial"/>
              </a:rPr>
              <a:t>What happens when two ships or trucks pass alongside each o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2"/>
          <p:cNvSpPr/>
          <p:nvPr/>
        </p:nvSpPr>
        <p:spPr>
          <a:xfrm>
            <a:off x="4826160" y="571680"/>
            <a:ext cx="888840" cy="27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 flipH="1">
            <a:off x="6349680" y="571680"/>
            <a:ext cx="888840" cy="27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"/>
          <p:cNvSpPr/>
          <p:nvPr/>
        </p:nvSpPr>
        <p:spPr>
          <a:xfrm>
            <a:off x="6350040" y="3286080"/>
            <a:ext cx="127080" cy="18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5"/>
          <p:cNvSpPr/>
          <p:nvPr/>
        </p:nvSpPr>
        <p:spPr>
          <a:xfrm flipH="1">
            <a:off x="5460840" y="3714840"/>
            <a:ext cx="25416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 flipH="1">
            <a:off x="3429000" y="3286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7"/>
          <p:cNvSpPr/>
          <p:nvPr/>
        </p:nvSpPr>
        <p:spPr>
          <a:xfrm flipH="1">
            <a:off x="3809880" y="37148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 flipH="1">
            <a:off x="6603480" y="714240"/>
            <a:ext cx="12708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6095880" y="714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>
            <a:off x="5334120" y="714240"/>
            <a:ext cx="253800" cy="5716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1"/>
          <p:cNvSpPr/>
          <p:nvPr/>
        </p:nvSpPr>
        <p:spPr>
          <a:xfrm>
            <a:off x="6222960" y="3000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6029280" y="3000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3"/>
          <p:cNvSpPr/>
          <p:nvPr/>
        </p:nvSpPr>
        <p:spPr>
          <a:xfrm>
            <a:off x="5842080" y="3000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2666880" y="5000760"/>
            <a:ext cx="1778040" cy="85716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5"/>
          <p:cNvSpPr/>
          <p:nvPr/>
        </p:nvSpPr>
        <p:spPr>
          <a:xfrm>
            <a:off x="4444920" y="4714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6"/>
          <p:cNvSpPr/>
          <p:nvPr/>
        </p:nvSpPr>
        <p:spPr>
          <a:xfrm flipH="1">
            <a:off x="2666520" y="5857920"/>
            <a:ext cx="1778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 flipV="1">
            <a:off x="2666880" y="471456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8"/>
          <p:cNvSpPr/>
          <p:nvPr/>
        </p:nvSpPr>
        <p:spPr>
          <a:xfrm>
            <a:off x="3809880" y="3714840"/>
            <a:ext cx="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>
            <a:off x="3429000" y="3286080"/>
            <a:ext cx="0" cy="18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"/>
          <p:cNvSpPr/>
          <p:nvPr/>
        </p:nvSpPr>
        <p:spPr>
          <a:xfrm flipV="1">
            <a:off x="3643200" y="4000680"/>
            <a:ext cx="0" cy="7142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>
            <a:off x="5005440" y="3527280"/>
            <a:ext cx="5079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>
            <a:off x="5942160" y="357192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3"/>
          <p:cNvSpPr/>
          <p:nvPr/>
        </p:nvSpPr>
        <p:spPr>
          <a:xfrm>
            <a:off x="6130800" y="367668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4"/>
          <p:cNvSpPr/>
          <p:nvPr/>
        </p:nvSpPr>
        <p:spPr>
          <a:xfrm>
            <a:off x="6222960" y="514368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5"/>
          <p:cNvSpPr/>
          <p:nvPr/>
        </p:nvSpPr>
        <p:spPr>
          <a:xfrm>
            <a:off x="5715000" y="514368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6"/>
          <p:cNvSpPr/>
          <p:nvPr/>
        </p:nvSpPr>
        <p:spPr>
          <a:xfrm>
            <a:off x="5948280" y="5143680"/>
            <a:ext cx="0" cy="7142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7"/>
          <p:cNvSpPr/>
          <p:nvPr/>
        </p:nvSpPr>
        <p:spPr>
          <a:xfrm>
            <a:off x="6350040" y="5286240"/>
            <a:ext cx="253800" cy="5716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8"/>
          <p:cNvSpPr/>
          <p:nvPr/>
        </p:nvSpPr>
        <p:spPr>
          <a:xfrm flipH="1">
            <a:off x="5460480" y="5143680"/>
            <a:ext cx="127080" cy="7142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6410880" y="3191040"/>
            <a:ext cx="26758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elocity increas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ssure decreas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0"/>
          <p:cNvSpPr/>
          <p:nvPr/>
        </p:nvSpPr>
        <p:spPr>
          <a:xfrm>
            <a:off x="3306960" y="3255840"/>
            <a:ext cx="183132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1"/>
          <p:cNvSpPr/>
          <p:nvPr/>
        </p:nvSpPr>
        <p:spPr>
          <a:xfrm>
            <a:off x="2921040" y="4143240"/>
            <a:ext cx="0" cy="714600"/>
          </a:xfrm>
          <a:prstGeom prst="line">
            <a:avLst/>
          </a:prstGeom>
          <a:ln w="57240">
            <a:solidFill>
              <a:srgbClr val="1a0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2"/>
          <p:cNvSpPr/>
          <p:nvPr/>
        </p:nvSpPr>
        <p:spPr>
          <a:xfrm>
            <a:off x="468360" y="3286080"/>
            <a:ext cx="20844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hig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press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(</a:t>
            </a:r>
            <a:r>
              <a:rPr b="1" i="1" lang="en-US" sz="2500" spc="-1" strike="noStrike">
                <a:solidFill>
                  <a:srgbClr val="1a0ffd"/>
                </a:solidFill>
                <a:latin typeface="Arial"/>
              </a:rPr>
              <a:t>p</a:t>
            </a:r>
            <a:r>
              <a:rPr b="1" lang="en-US" sz="2500" spc="-1" strike="noStrike" baseline="-25000">
                <a:solidFill>
                  <a:srgbClr val="1a0ffd"/>
                </a:solidFill>
                <a:latin typeface="Arial"/>
              </a:rPr>
              <a:t>atm</a:t>
            </a: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4"/>
          <p:cNvSpPr/>
          <p:nvPr/>
        </p:nvSpPr>
        <p:spPr>
          <a:xfrm>
            <a:off x="471600" y="403200"/>
            <a:ext cx="27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VENTURI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2"/>
          <p:cNvSpPr/>
          <p:nvPr/>
        </p:nvSpPr>
        <p:spPr>
          <a:xfrm rot="5400000">
            <a:off x="3698640" y="-1539720"/>
            <a:ext cx="1428840" cy="6794640"/>
          </a:xfrm>
          <a:prstGeom prst="can">
            <a:avLst>
              <a:gd name="adj" fmla="val 945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3429000" y="4286160"/>
            <a:ext cx="19051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4"/>
          <p:cNvGrpSpPr/>
          <p:nvPr/>
        </p:nvGrpSpPr>
        <p:grpSpPr>
          <a:xfrm>
            <a:off x="3521160" y="2133720"/>
            <a:ext cx="1904400" cy="856800"/>
            <a:chOff x="3521160" y="2133720"/>
            <a:chExt cx="1904400" cy="856800"/>
          </a:xfrm>
        </p:grpSpPr>
        <p:sp>
          <p:nvSpPr>
            <p:cNvPr id="259" name="Oval 5"/>
            <p:cNvSpPr/>
            <p:nvPr/>
          </p:nvSpPr>
          <p:spPr>
            <a:xfrm>
              <a:off x="3521160" y="2133720"/>
              <a:ext cx="1904400" cy="713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6"/>
            <p:cNvSpPr/>
            <p:nvPr/>
          </p:nvSpPr>
          <p:spPr>
            <a:xfrm>
              <a:off x="3521160" y="2562120"/>
              <a:ext cx="1904400" cy="4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7"/>
          <p:cNvGrpSpPr/>
          <p:nvPr/>
        </p:nvGrpSpPr>
        <p:grpSpPr>
          <a:xfrm>
            <a:off x="3556080" y="703440"/>
            <a:ext cx="1904400" cy="856800"/>
            <a:chOff x="3556080" y="703440"/>
            <a:chExt cx="1904400" cy="856800"/>
          </a:xfrm>
        </p:grpSpPr>
        <p:sp>
          <p:nvSpPr>
            <p:cNvPr id="262" name="Oval 8"/>
            <p:cNvSpPr/>
            <p:nvPr/>
          </p:nvSpPr>
          <p:spPr>
            <a:xfrm flipH="1" flipV="1">
              <a:off x="3556080" y="846720"/>
              <a:ext cx="1904400" cy="713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9"/>
            <p:cNvSpPr/>
            <p:nvPr/>
          </p:nvSpPr>
          <p:spPr>
            <a:xfrm flipH="1" flipV="1">
              <a:off x="3556080" y="703440"/>
              <a:ext cx="1904400" cy="4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10"/>
          <p:cNvSpPr/>
          <p:nvPr/>
        </p:nvSpPr>
        <p:spPr>
          <a:xfrm>
            <a:off x="5806440" y="1571760"/>
            <a:ext cx="1131840" cy="54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1"/>
          <p:cNvSpPr/>
          <p:nvPr/>
        </p:nvSpPr>
        <p:spPr>
          <a:xfrm>
            <a:off x="1397160" y="1857240"/>
            <a:ext cx="3808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3683160" y="1857240"/>
            <a:ext cx="16509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3"/>
          <p:cNvGrpSpPr/>
          <p:nvPr/>
        </p:nvGrpSpPr>
        <p:grpSpPr>
          <a:xfrm>
            <a:off x="4191120" y="2714760"/>
            <a:ext cx="507600" cy="570960"/>
            <a:chOff x="4191120" y="2714760"/>
            <a:chExt cx="507600" cy="570960"/>
          </a:xfrm>
        </p:grpSpPr>
        <p:sp>
          <p:nvSpPr>
            <p:cNvPr id="268" name="Line 14"/>
            <p:cNvSpPr/>
            <p:nvPr/>
          </p:nvSpPr>
          <p:spPr>
            <a:xfrm flipV="1">
              <a:off x="4191120" y="271476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 flipV="1">
              <a:off x="4445280" y="271476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 flipV="1">
              <a:off x="4698720" y="271476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17"/>
          <p:cNvGrpSpPr/>
          <p:nvPr/>
        </p:nvGrpSpPr>
        <p:grpSpPr>
          <a:xfrm>
            <a:off x="4151160" y="285840"/>
            <a:ext cx="507960" cy="570960"/>
            <a:chOff x="4151160" y="285840"/>
            <a:chExt cx="507960" cy="570960"/>
          </a:xfrm>
        </p:grpSpPr>
        <p:sp>
          <p:nvSpPr>
            <p:cNvPr id="272" name="Line 18"/>
            <p:cNvSpPr/>
            <p:nvPr/>
          </p:nvSpPr>
          <p:spPr>
            <a:xfrm>
              <a:off x="4151160" y="28584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9"/>
            <p:cNvSpPr/>
            <p:nvPr/>
          </p:nvSpPr>
          <p:spPr>
            <a:xfrm>
              <a:off x="4405320" y="28584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20"/>
            <p:cNvSpPr/>
            <p:nvPr/>
          </p:nvSpPr>
          <p:spPr>
            <a:xfrm>
              <a:off x="4659120" y="28584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 Box 21"/>
          <p:cNvSpPr/>
          <p:nvPr/>
        </p:nvSpPr>
        <p:spPr>
          <a:xfrm>
            <a:off x="4708800" y="3000240"/>
            <a:ext cx="35323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ternal forces cau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tery to collap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2"/>
          <p:cNvSpPr/>
          <p:nvPr/>
        </p:nvSpPr>
        <p:spPr>
          <a:xfrm>
            <a:off x="507960" y="2857680"/>
            <a:ext cx="355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Flow speeds up at constri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Pressure is l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ernal force acting on artery wall is reduc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3"/>
          <p:cNvSpPr/>
          <p:nvPr/>
        </p:nvSpPr>
        <p:spPr>
          <a:xfrm>
            <a:off x="1842480" y="5443920"/>
            <a:ext cx="54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Arteriosclerosis and vascular flu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ferences and lin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rnoulli A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ttp://mitchellscience.com/bernoulli_principle_discussion_no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ve Spangler and Hydrogen Hexafluori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GRLOgmmz_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et Colorado Fluid Pressure and Flow si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ttp://phet.colorado.edu/en/simulation/fluid-pressure-and-flo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ypes of Fluid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mechteacher.com/fluid/#ixzz2fcgGwLb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ing Fluids,Laminar Flow and stream l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_aWdeXby7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bernoulli"/>
          <p:cNvPicPr/>
          <p:nvPr/>
        </p:nvPicPr>
        <p:blipFill>
          <a:blip r:embed="rId1"/>
          <a:stretch/>
        </p:blipFill>
        <p:spPr>
          <a:xfrm>
            <a:off x="0" y="0"/>
            <a:ext cx="3851280" cy="40053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18360" y="4077360"/>
            <a:ext cx="34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aniel Bernoulli (1700 – 1782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3995640" y="260280"/>
            <a:ext cx="51483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rivation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ications of th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rnoulli Princip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3924360" y="2060640"/>
            <a:ext cx="50403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S Taldykor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de 11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on Object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To apply Bernoulli’s equation to solv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250920" y="4581360"/>
            <a:ext cx="813744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To describe Bernoulli’s principle and to derive his formul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erms of conservation of ener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To present applications of the Bernoulli 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0000"/>
                </a:solidFill>
                <a:latin typeface="Arial"/>
              </a:rPr>
              <a:t>Bernoulli’s Principl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 the speed of a fluid goes up, its pressure goes dow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essure in a fast moving stream of fluid is less than the pressure in a slower str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886200" y="5410080"/>
            <a:ext cx="4191120" cy="152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6934320" y="4876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019680" y="4419720"/>
            <a:ext cx="5668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ast stream = low air pres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932560" y="6308640"/>
            <a:ext cx="598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low stream = High air pres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4"/>
          <p:cNvSpPr/>
          <p:nvPr/>
        </p:nvSpPr>
        <p:spPr>
          <a:xfrm>
            <a:off x="5562720" y="4876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4267080" y="4876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6"/>
          <p:cNvSpPr/>
          <p:nvPr/>
        </p:nvSpPr>
        <p:spPr>
          <a:xfrm>
            <a:off x="5410080" y="5562720"/>
            <a:ext cx="986040" cy="914400"/>
          </a:xfrm>
          <a:custGeom>
            <a:avLst/>
            <a:gdLst>
              <a:gd name="textAreaLeft" fmla="*/ 98640 w 986040"/>
              <a:gd name="textAreaRight" fmla="*/ 887760 w 986040"/>
              <a:gd name="textAreaTop" fmla="*/ 365760 h 914400"/>
              <a:gd name="textAreaBottom" fmla="*/ 548640 h 914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33"/>
          <p:cNvGrpSpPr/>
          <p:nvPr/>
        </p:nvGrpSpPr>
        <p:grpSpPr>
          <a:xfrm>
            <a:off x="394920" y="333360"/>
            <a:ext cx="8518320" cy="3189960"/>
            <a:chOff x="394920" y="333360"/>
            <a:chExt cx="8518320" cy="3189960"/>
          </a:xfrm>
        </p:grpSpPr>
        <p:sp>
          <p:nvSpPr>
            <p:cNvPr id="68" name="Rectangle 2"/>
            <p:cNvSpPr/>
            <p:nvPr/>
          </p:nvSpPr>
          <p:spPr>
            <a:xfrm>
              <a:off x="395280" y="1922400"/>
              <a:ext cx="3367800" cy="6051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"/>
            <p:cNvSpPr/>
            <p:nvPr/>
          </p:nvSpPr>
          <p:spPr>
            <a:xfrm>
              <a:off x="5520240" y="1922400"/>
              <a:ext cx="3074760" cy="6051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4"/>
            <p:cNvSpPr/>
            <p:nvPr/>
          </p:nvSpPr>
          <p:spPr>
            <a:xfrm>
              <a:off x="3616560" y="2149560"/>
              <a:ext cx="2196360" cy="2268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5"/>
            <p:cNvSpPr/>
            <p:nvPr/>
          </p:nvSpPr>
          <p:spPr>
            <a:xfrm>
              <a:off x="1566360" y="787320"/>
              <a:ext cx="292680" cy="13622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6"/>
            <p:cNvSpPr/>
            <p:nvPr/>
          </p:nvSpPr>
          <p:spPr>
            <a:xfrm>
              <a:off x="4494960" y="1392840"/>
              <a:ext cx="292680" cy="832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6984360" y="862920"/>
              <a:ext cx="292680" cy="13622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8"/>
            <p:cNvSpPr/>
            <p:nvPr/>
          </p:nvSpPr>
          <p:spPr>
            <a:xfrm>
              <a:off x="395280" y="2527920"/>
              <a:ext cx="336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9"/>
            <p:cNvSpPr/>
            <p:nvPr/>
          </p:nvSpPr>
          <p:spPr>
            <a:xfrm>
              <a:off x="3763080" y="2376720"/>
              <a:ext cx="175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0"/>
            <p:cNvSpPr/>
            <p:nvPr/>
          </p:nvSpPr>
          <p:spPr>
            <a:xfrm flipH="1">
              <a:off x="5519880" y="2527920"/>
              <a:ext cx="30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1"/>
            <p:cNvSpPr/>
            <p:nvPr/>
          </p:nvSpPr>
          <p:spPr>
            <a:xfrm flipH="1">
              <a:off x="394920" y="1922400"/>
              <a:ext cx="117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2"/>
            <p:cNvSpPr/>
            <p:nvPr/>
          </p:nvSpPr>
          <p:spPr>
            <a:xfrm flipH="1">
              <a:off x="1859040" y="1922400"/>
              <a:ext cx="19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 flipH="1">
              <a:off x="3762720" y="2149560"/>
              <a:ext cx="73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4"/>
            <p:cNvSpPr/>
            <p:nvPr/>
          </p:nvSpPr>
          <p:spPr>
            <a:xfrm flipH="1">
              <a:off x="4787640" y="2149560"/>
              <a:ext cx="73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5"/>
            <p:cNvSpPr/>
            <p:nvPr/>
          </p:nvSpPr>
          <p:spPr>
            <a:xfrm flipH="1">
              <a:off x="5519880" y="1922400"/>
              <a:ext cx="146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6"/>
            <p:cNvSpPr/>
            <p:nvPr/>
          </p:nvSpPr>
          <p:spPr>
            <a:xfrm flipH="1">
              <a:off x="7277400" y="1922400"/>
              <a:ext cx="131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7"/>
            <p:cNvSpPr/>
            <p:nvPr/>
          </p:nvSpPr>
          <p:spPr>
            <a:xfrm>
              <a:off x="1566360" y="3333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8"/>
            <p:cNvSpPr/>
            <p:nvPr/>
          </p:nvSpPr>
          <p:spPr>
            <a:xfrm>
              <a:off x="1859400" y="3333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9"/>
            <p:cNvSpPr/>
            <p:nvPr/>
          </p:nvSpPr>
          <p:spPr>
            <a:xfrm>
              <a:off x="4494960" y="4089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0"/>
            <p:cNvSpPr/>
            <p:nvPr/>
          </p:nvSpPr>
          <p:spPr>
            <a:xfrm>
              <a:off x="4788000" y="4089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1"/>
            <p:cNvSpPr/>
            <p:nvPr/>
          </p:nvSpPr>
          <p:spPr>
            <a:xfrm>
              <a:off x="6984360" y="3459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2"/>
            <p:cNvSpPr/>
            <p:nvPr/>
          </p:nvSpPr>
          <p:spPr>
            <a:xfrm>
              <a:off x="7277400" y="33840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>
              <a:off x="1420200" y="275508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>
              <a:off x="3909240" y="2755080"/>
              <a:ext cx="146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>
              <a:off x="6837840" y="275508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6"/>
            <p:cNvSpPr/>
            <p:nvPr/>
          </p:nvSpPr>
          <p:spPr>
            <a:xfrm>
              <a:off x="1180800" y="2906280"/>
              <a:ext cx="13071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smal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7"/>
            <p:cNvSpPr/>
            <p:nvPr/>
          </p:nvSpPr>
          <p:spPr>
            <a:xfrm>
              <a:off x="6598800" y="2982240"/>
              <a:ext cx="13071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smal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8"/>
            <p:cNvSpPr/>
            <p:nvPr/>
          </p:nvSpPr>
          <p:spPr>
            <a:xfrm>
              <a:off x="3960360" y="2906280"/>
              <a:ext cx="127368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990000"/>
                  </a:solidFill>
                  <a:latin typeface="Arial"/>
                </a:rPr>
                <a:t>v</a:t>
              </a:r>
              <a:r>
                <a:rPr b="0" lang="en-US" sz="2500" spc="-1" strike="noStrike">
                  <a:solidFill>
                    <a:srgbClr val="990000"/>
                  </a:solidFill>
                  <a:latin typeface="Arial"/>
                </a:rPr>
                <a:t> larg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9"/>
            <p:cNvSpPr/>
            <p:nvPr/>
          </p:nvSpPr>
          <p:spPr>
            <a:xfrm>
              <a:off x="2057040" y="635760"/>
              <a:ext cx="1292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larg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30"/>
            <p:cNvSpPr/>
            <p:nvPr/>
          </p:nvSpPr>
          <p:spPr>
            <a:xfrm>
              <a:off x="7621200" y="635760"/>
              <a:ext cx="1292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larg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31"/>
            <p:cNvSpPr/>
            <p:nvPr/>
          </p:nvSpPr>
          <p:spPr>
            <a:xfrm>
              <a:off x="4988160" y="1316880"/>
              <a:ext cx="132552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990000"/>
                  </a:solidFill>
                  <a:latin typeface="Arial"/>
                </a:rPr>
                <a:t>p</a:t>
              </a:r>
              <a:r>
                <a:rPr b="0" lang="en-US" sz="2500" spc="-1" strike="noStrike">
                  <a:solidFill>
                    <a:srgbClr val="990000"/>
                  </a:solidFill>
                  <a:latin typeface="Arial"/>
                </a:rPr>
                <a:t> smal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34"/>
          <p:cNvGrpSpPr/>
          <p:nvPr/>
        </p:nvGrpSpPr>
        <p:grpSpPr>
          <a:xfrm>
            <a:off x="611280" y="3213000"/>
            <a:ext cx="8137800" cy="3648600"/>
            <a:chOff x="611280" y="3213000"/>
            <a:chExt cx="8137800" cy="3648600"/>
          </a:xfrm>
        </p:grpSpPr>
        <p:sp>
          <p:nvSpPr>
            <p:cNvPr id="99" name="Line 2"/>
            <p:cNvSpPr/>
            <p:nvPr/>
          </p:nvSpPr>
          <p:spPr>
            <a:xfrm flipH="1" flipV="1">
              <a:off x="4598640" y="5031360"/>
              <a:ext cx="174888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3"/>
            <p:cNvSpPr/>
            <p:nvPr/>
          </p:nvSpPr>
          <p:spPr>
            <a:xfrm flipH="1">
              <a:off x="4598640" y="3603960"/>
              <a:ext cx="1748880" cy="34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4"/>
            <p:cNvSpPr/>
            <p:nvPr/>
          </p:nvSpPr>
          <p:spPr>
            <a:xfrm rot="5400000">
              <a:off x="6017760" y="3741120"/>
              <a:ext cx="1697760" cy="1423080"/>
            </a:xfrm>
            <a:prstGeom prst="can">
              <a:avLst>
                <a:gd name="adj" fmla="val 2717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5"/>
            <p:cNvSpPr/>
            <p:nvPr/>
          </p:nvSpPr>
          <p:spPr>
            <a:xfrm flipH="1" rot="16200000">
              <a:off x="4012560" y="4261320"/>
              <a:ext cx="1086840" cy="453240"/>
            </a:xfrm>
            <a:prstGeom prst="can">
              <a:avLst>
                <a:gd name="adj" fmla="val 25000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 flipH="1">
              <a:off x="6155280" y="387576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 flipH="1">
              <a:off x="6155280" y="428328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 flipH="1">
              <a:off x="6155280" y="407988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 flipH="1">
              <a:off x="6155280" y="469080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H="1">
              <a:off x="6155280" y="489420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2"/>
            <p:cNvSpPr/>
            <p:nvPr/>
          </p:nvSpPr>
          <p:spPr>
            <a:xfrm rot="5400000">
              <a:off x="6525360" y="4194000"/>
              <a:ext cx="1697760" cy="517680"/>
            </a:xfrm>
            <a:prstGeom prst="can">
              <a:avLst>
                <a:gd name="adj" fmla="val 50000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7451640" y="489240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451640" y="469080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7451640" y="44866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7451640" y="42832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7451640" y="40798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7451640" y="387576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 flipH="1">
              <a:off x="4729320" y="4486680"/>
              <a:ext cx="233136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 flipH="1" flipV="1">
              <a:off x="4729320" y="4623480"/>
              <a:ext cx="1426320" cy="666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 flipH="1" flipV="1">
              <a:off x="4729320" y="4758480"/>
              <a:ext cx="1426320" cy="135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 flipH="1" flipV="1">
              <a:off x="4729320" y="4894200"/>
              <a:ext cx="1426320" cy="2030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 flipH="1">
              <a:off x="4729320" y="4283280"/>
              <a:ext cx="1426320" cy="684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 flipH="1">
              <a:off x="4729320" y="4079880"/>
              <a:ext cx="1426320" cy="136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 flipH="1">
              <a:off x="4729320" y="3875760"/>
              <a:ext cx="1426320" cy="2041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 flipH="1">
              <a:off x="6155640" y="5097600"/>
              <a:ext cx="9712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451640" y="50914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8"/>
            <p:cNvSpPr/>
            <p:nvPr/>
          </p:nvSpPr>
          <p:spPr>
            <a:xfrm>
              <a:off x="1480680" y="3213000"/>
              <a:ext cx="10868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9"/>
            <p:cNvSpPr/>
            <p:nvPr/>
          </p:nvSpPr>
          <p:spPr>
            <a:xfrm>
              <a:off x="4274280" y="3447360"/>
              <a:ext cx="12225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967680" y="5259240"/>
              <a:ext cx="13701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2"/>
            <p:cNvSpPr/>
            <p:nvPr/>
          </p:nvSpPr>
          <p:spPr>
            <a:xfrm>
              <a:off x="3778200" y="5135760"/>
              <a:ext cx="10868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34"/>
            <p:cNvGrpSpPr/>
            <p:nvPr/>
          </p:nvGrpSpPr>
          <p:grpSpPr>
            <a:xfrm>
              <a:off x="1208880" y="3603960"/>
              <a:ext cx="3174840" cy="1697400"/>
              <a:chOff x="1208880" y="3603960"/>
              <a:chExt cx="3174840" cy="1697400"/>
            </a:xfrm>
          </p:grpSpPr>
          <p:sp>
            <p:nvSpPr>
              <p:cNvPr id="129" name="Line 35"/>
              <p:cNvSpPr/>
              <p:nvPr/>
            </p:nvSpPr>
            <p:spPr>
              <a:xfrm flipV="1">
                <a:off x="2635200" y="5030640"/>
                <a:ext cx="1748520" cy="27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36"/>
              <p:cNvSpPr/>
              <p:nvPr/>
            </p:nvSpPr>
            <p:spPr>
              <a:xfrm>
                <a:off x="2635200" y="3603960"/>
                <a:ext cx="1748520" cy="34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AutoShape 37"/>
              <p:cNvSpPr/>
              <p:nvPr/>
            </p:nvSpPr>
            <p:spPr>
              <a:xfrm flipH="1" rot="16200000">
                <a:off x="1265400" y="3741120"/>
                <a:ext cx="1697400" cy="1423080"/>
              </a:xfrm>
              <a:prstGeom prst="can">
                <a:avLst>
                  <a:gd name="adj" fmla="val 27175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38"/>
              <p:cNvSpPr/>
              <p:nvPr/>
            </p:nvSpPr>
            <p:spPr>
              <a:xfrm>
                <a:off x="1248480" y="4486680"/>
                <a:ext cx="3250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39"/>
              <p:cNvSpPr/>
              <p:nvPr/>
            </p:nvSpPr>
            <p:spPr>
              <a:xfrm>
                <a:off x="1208880" y="387576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40"/>
              <p:cNvSpPr/>
              <p:nvPr/>
            </p:nvSpPr>
            <p:spPr>
              <a:xfrm>
                <a:off x="1208880" y="428328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41"/>
              <p:cNvSpPr/>
              <p:nvPr/>
            </p:nvSpPr>
            <p:spPr>
              <a:xfrm>
                <a:off x="1208880" y="407952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42"/>
              <p:cNvSpPr/>
              <p:nvPr/>
            </p:nvSpPr>
            <p:spPr>
              <a:xfrm>
                <a:off x="1208880" y="469044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43"/>
              <p:cNvSpPr/>
              <p:nvPr/>
            </p:nvSpPr>
            <p:spPr>
              <a:xfrm>
                <a:off x="1208880" y="489420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AutoShape 44"/>
              <p:cNvSpPr/>
              <p:nvPr/>
            </p:nvSpPr>
            <p:spPr>
              <a:xfrm flipH="1" rot="16200000">
                <a:off x="813600" y="4193640"/>
                <a:ext cx="1697400" cy="517680"/>
              </a:xfrm>
              <a:prstGeom prst="can">
                <a:avLst>
                  <a:gd name="adj" fmla="val 50000"/>
                </a:avLst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45"/>
              <p:cNvSpPr/>
              <p:nvPr/>
            </p:nvSpPr>
            <p:spPr>
              <a:xfrm flipH="1">
                <a:off x="1208880" y="489240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46"/>
              <p:cNvSpPr/>
              <p:nvPr/>
            </p:nvSpPr>
            <p:spPr>
              <a:xfrm flipH="1">
                <a:off x="1208880" y="469044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47"/>
              <p:cNvSpPr/>
              <p:nvPr/>
            </p:nvSpPr>
            <p:spPr>
              <a:xfrm flipH="1">
                <a:off x="1208880" y="448668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48"/>
              <p:cNvSpPr/>
              <p:nvPr/>
            </p:nvSpPr>
            <p:spPr>
              <a:xfrm flipH="1">
                <a:off x="1208880" y="428328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49"/>
              <p:cNvSpPr/>
              <p:nvPr/>
            </p:nvSpPr>
            <p:spPr>
              <a:xfrm flipH="1">
                <a:off x="1208880" y="407952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50"/>
              <p:cNvSpPr/>
              <p:nvPr/>
            </p:nvSpPr>
            <p:spPr>
              <a:xfrm flipH="1">
                <a:off x="1208880" y="387576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51"/>
              <p:cNvSpPr/>
              <p:nvPr/>
            </p:nvSpPr>
            <p:spPr>
              <a:xfrm>
                <a:off x="1921680" y="4486680"/>
                <a:ext cx="233172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52"/>
              <p:cNvSpPr/>
              <p:nvPr/>
            </p:nvSpPr>
            <p:spPr>
              <a:xfrm flipV="1">
                <a:off x="2827080" y="4623120"/>
                <a:ext cx="1426320" cy="666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53"/>
              <p:cNvSpPr/>
              <p:nvPr/>
            </p:nvSpPr>
            <p:spPr>
              <a:xfrm flipV="1">
                <a:off x="2827080" y="4758840"/>
                <a:ext cx="1426320" cy="135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54"/>
              <p:cNvSpPr/>
              <p:nvPr/>
            </p:nvSpPr>
            <p:spPr>
              <a:xfrm flipV="1">
                <a:off x="2827080" y="4893840"/>
                <a:ext cx="1426320" cy="2034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55"/>
              <p:cNvSpPr/>
              <p:nvPr/>
            </p:nvSpPr>
            <p:spPr>
              <a:xfrm>
                <a:off x="2827080" y="4283280"/>
                <a:ext cx="1426320" cy="680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56"/>
              <p:cNvSpPr/>
              <p:nvPr/>
            </p:nvSpPr>
            <p:spPr>
              <a:xfrm>
                <a:off x="2827080" y="4079520"/>
                <a:ext cx="1426320" cy="1364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57"/>
              <p:cNvSpPr/>
              <p:nvPr/>
            </p:nvSpPr>
            <p:spPr>
              <a:xfrm>
                <a:off x="2827080" y="3875760"/>
                <a:ext cx="1426320" cy="2037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58"/>
              <p:cNvSpPr/>
              <p:nvPr/>
            </p:nvSpPr>
            <p:spPr>
              <a:xfrm>
                <a:off x="1856880" y="5097960"/>
                <a:ext cx="970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59"/>
              <p:cNvSpPr/>
              <p:nvPr/>
            </p:nvSpPr>
            <p:spPr>
              <a:xfrm flipH="1">
                <a:off x="1208880" y="509112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Text Box 60"/>
            <p:cNvSpPr/>
            <p:nvPr/>
          </p:nvSpPr>
          <p:spPr>
            <a:xfrm>
              <a:off x="7186680" y="3213000"/>
              <a:ext cx="10868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62"/>
            <p:cNvSpPr/>
            <p:nvPr/>
          </p:nvSpPr>
          <p:spPr>
            <a:xfrm>
              <a:off x="6806160" y="5221800"/>
              <a:ext cx="13701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63"/>
            <p:cNvSpPr/>
            <p:nvPr/>
          </p:nvSpPr>
          <p:spPr>
            <a:xfrm>
              <a:off x="611280" y="5480640"/>
              <a:ext cx="2296080" cy="13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spee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K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pressur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64"/>
            <p:cNvSpPr/>
            <p:nvPr/>
          </p:nvSpPr>
          <p:spPr>
            <a:xfrm>
              <a:off x="3463920" y="5480640"/>
              <a:ext cx="2119320" cy="13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spee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K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pressur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65"/>
            <p:cNvSpPr/>
            <p:nvPr/>
          </p:nvSpPr>
          <p:spPr>
            <a:xfrm>
              <a:off x="6453000" y="5558760"/>
              <a:ext cx="2296080" cy="13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spee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K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pressur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Equation of Continuit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nw0461-n"/>
          <p:cNvPicPr/>
          <p:nvPr/>
        </p:nvPicPr>
        <p:blipFill>
          <a:blip r:embed="rId1"/>
          <a:stretch/>
        </p:blipFill>
        <p:spPr>
          <a:xfrm>
            <a:off x="185760" y="1125360"/>
            <a:ext cx="8202600" cy="2224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math027"/>
          <p:cNvPicPr/>
          <p:nvPr/>
        </p:nvPicPr>
        <p:blipFill>
          <a:blip r:embed="rId2"/>
          <a:stretch/>
        </p:blipFill>
        <p:spPr>
          <a:xfrm>
            <a:off x="0" y="3645000"/>
            <a:ext cx="4267080" cy="885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math028"/>
          <p:cNvPicPr/>
          <p:nvPr/>
        </p:nvPicPr>
        <p:blipFill>
          <a:blip r:embed="rId3"/>
          <a:stretch/>
        </p:blipFill>
        <p:spPr>
          <a:xfrm>
            <a:off x="4386240" y="3141720"/>
            <a:ext cx="4494240" cy="930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math029"/>
          <p:cNvPicPr/>
          <p:nvPr/>
        </p:nvPicPr>
        <p:blipFill>
          <a:blip r:embed="rId4"/>
          <a:stretch/>
        </p:blipFill>
        <p:spPr>
          <a:xfrm>
            <a:off x="1320840" y="4797360"/>
            <a:ext cx="641988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250920" y="344520"/>
            <a:ext cx="8893080" cy="62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66"/>
                </a:solidFill>
                <a:latin typeface="Arial"/>
              </a:rPr>
              <a:t>Bernoulli’s Equation in terms of Fluid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for any point along a flow tube or streamlin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AU" sz="2400" spc="-1" strike="noStrike">
                <a:solidFill>
                  <a:srgbClr val="1a0ffd"/>
                </a:solidFill>
                <a:latin typeface="Arial"/>
              </a:rPr>
              <a:t>P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+ ½ </a:t>
            </a:r>
            <a:r>
              <a:rPr b="1" lang="en-AU" sz="2400" spc="-1" strike="noStrike">
                <a:solidFill>
                  <a:srgbClr val="1a0ffd"/>
                </a:solidFill>
                <a:latin typeface="Symbol"/>
                <a:ea typeface="Symbol"/>
              </a:rPr>
              <a:t>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</a:t>
            </a:r>
            <a:r>
              <a:rPr b="1" i="1" lang="en-AU" sz="2400" spc="-1" strike="noStrike">
                <a:solidFill>
                  <a:srgbClr val="1a0ffd"/>
                </a:solidFill>
                <a:latin typeface="Arial"/>
              </a:rPr>
              <a:t>v</a:t>
            </a:r>
            <a:r>
              <a:rPr b="1" lang="en-AU" sz="2400" spc="-1" strike="noStrike" baseline="30000">
                <a:solidFill>
                  <a:srgbClr val="1a0ffd"/>
                </a:solidFill>
                <a:latin typeface="Arial"/>
              </a:rPr>
              <a:t>2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+ </a:t>
            </a:r>
            <a:r>
              <a:rPr b="1" lang="en-AU" sz="2400" spc="-1" strike="noStrike">
                <a:solidFill>
                  <a:srgbClr val="1a0ffd"/>
                </a:solidFill>
                <a:latin typeface="Symbol"/>
                <a:ea typeface="Symbol"/>
              </a:rPr>
              <a:t>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g h =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ach term has the dimensions of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energy / volume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energy density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½ </a:t>
            </a:r>
            <a:r>
              <a:rPr b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KE of bulk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motion of f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"/>
              <a:tabLst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g h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GPE for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location of f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"/>
              <a:tabLst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      pressure energy density arising from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internal forces with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moving fluid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(similar to energy stored in a sp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0066"/>
                </a:solidFill>
                <a:latin typeface="Arial"/>
              </a:rPr>
              <a:t>Transformation of SI Units to Joule/meter</a:t>
            </a:r>
            <a:r>
              <a:rPr b="1" lang="en-AU" sz="2000" spc="-1" strike="noStrike" baseline="30000">
                <a:solidFill>
                  <a:srgbClr val="ff0066"/>
                </a:solidFill>
                <a:latin typeface="Arial"/>
              </a:rPr>
              <a:t>3</a:t>
            </a:r>
            <a:r>
              <a:rPr b="1" lang="en-AU" sz="2000" spc="-1" strike="noStrike">
                <a:solidFill>
                  <a:srgbClr val="ff0066"/>
                </a:solidFill>
                <a:latin typeface="Arial"/>
              </a:rPr>
              <a:t>= energy/volu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  [Pa] = [N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N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J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½ </a:t>
            </a:r>
            <a:r>
              <a:rPr b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[kg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kg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N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J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g h       [kg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] = [kg m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N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J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"/>
              <a:tabLst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3276720" y="333360"/>
            <a:ext cx="540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Bernoulli’s starting with the law of 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E:\Media\Image_Library\chapter14\1416.jpg"/>
          <p:cNvPicPr/>
          <p:nvPr/>
        </p:nvPicPr>
        <p:blipFill>
          <a:blip r:embed="rId1"/>
          <a:stretch/>
        </p:blipFill>
        <p:spPr>
          <a:xfrm>
            <a:off x="468360" y="692280"/>
            <a:ext cx="2689200" cy="567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0" name="Object 2"/>
              <p:cNvSpPr txBox="1"/>
              <p:nvPr/>
            </p:nvSpPr>
            <p:spPr>
              <a:xfrm>
                <a:off x="3733920" y="1846440"/>
                <a:ext cx="5211720" cy="42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an </m:t>
                        </m:r>
                        <m:r>
                          <m:t xml:space="preserve">incompressible</m:t>
                        </m:r>
                        <m:r>
                          <m:rPr>
                            <m:lit/>
                            <m:nor/>
                          </m:rPr>
                          <m:t xml:space="preserve"> fluid: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sider a given mass of fluid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Δ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Δt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Bernoulli’s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250920" y="1052640"/>
            <a:ext cx="87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eady flo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loci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s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ev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compressible and nonviscou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luid are related by an equation discovered by Daniel Bernoulli (1700–1782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nw0465-n"/>
          <p:cNvPicPr/>
          <p:nvPr/>
        </p:nvPicPr>
        <p:blipFill>
          <a:blip r:embed="rId1"/>
          <a:stretch/>
        </p:blipFill>
        <p:spPr>
          <a:xfrm>
            <a:off x="741240" y="3068640"/>
            <a:ext cx="784872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250920" y="476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Bernoulli’s equation as Conservation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E:\Media\Image_Library\chapter14\1418.jpg"/>
          <p:cNvPicPr/>
          <p:nvPr/>
        </p:nvPicPr>
        <p:blipFill>
          <a:blip r:embed="rId1"/>
          <a:stretch/>
        </p:blipFill>
        <p:spPr>
          <a:xfrm>
            <a:off x="76320" y="1523880"/>
            <a:ext cx="4033800" cy="4567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3657600" y="992160"/>
                <a:ext cx="5332320" cy="502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nergy-work relationship 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piece</m:t>
                        </m:r>
                        <m:r>
                          <m:rPr>
                            <m:lit/>
                            <m:nor/>
                          </m:rPr>
                          <m:t xml:space="preserve"> of fluid </m:t>
                        </m:r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→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g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ΔV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g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ρΔV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1T00:37:58Z</dcterms:created>
  <dc:creator>cooper</dc:creator>
  <dc:description/>
  <dc:language>en-US</dc:language>
  <cp:lastModifiedBy>RomaK</cp:lastModifiedBy>
  <dcterms:modified xsi:type="dcterms:W3CDTF">2015-09-03T12:20:36Z</dcterms:modified>
  <cp:revision>62</cp:revision>
  <dc:subject/>
  <dc:title>Slide 1</dc:title>
</cp:coreProperties>
</file>